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F5F8-60ED-4514-94B0-F1311E309BB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9A00-E200-4C23-A341-424996C534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3682-D781-4308-AA49-FBEE8241E0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717B-9D82-4DAD-9F21-3A46E4FB4F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F968-7DE3-47E0-8758-F9FE5D14DF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1534-92A5-47EB-BF77-FC7CC04B3D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55F7-DDBE-4401-B888-65070D00C1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B6AC-9AEE-4FE2-910D-5365034786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2679-0E73-4EFC-BADD-4BEE42CB15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FC5A-2822-4730-AC7F-2BE207E758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42FD-0FCB-44A2-99AC-78DA089907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58EF-1024-448F-A4E0-42A8B5D0B1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17A8-C267-4042-98B0-B48BE0A41C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9CB4-94F6-4D37-A536-5E98CA2F6C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AB5F-51ED-4FAE-95D6-ACD3E6AFEF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5F6C-FA9F-42D2-8553-799A2CC5BB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A908-3968-4C27-8B68-4CF503B9F8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38D4-D5D1-47E5-A28D-3EA5601E2F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3240-D2C0-4B57-B738-E55D65902F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6AE4-EE73-4063-887F-CB3BBA58A2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067-8703-43EA-B3C4-EC3448A1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7F3-8AC0-4940-A8D5-FA78E523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C1D-8552-4EBD-9996-BF4A9861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13B-09EF-4EED-9C76-BB5DDFB9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D975-7E56-4DAB-AD0A-3DE5503D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B269-DCB1-4AA3-9B9A-0965B464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13D4-E338-4E36-8731-7B3BAF06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A99B-0C11-418D-ACA8-46A9ED12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CBEB-C530-48FC-B886-B719D221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623A-2C3A-4E28-ABA0-5733E0B7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A495-7891-4F06-8AFB-6A21807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560-1C77-4DCB-A8A7-E75BD45D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7AF7-523F-4E59-B264-E2634A25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7FEC-5522-4647-A14A-038D426E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C800-FECC-421D-9FCB-82E00950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34D9-EF8E-48F9-9387-745A0976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F93C-A50C-4C5E-BAB1-1FC99246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BF86-1549-4FF3-A53D-A64C4FF3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475B-AC1C-4C5E-A091-51103C9A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EA59-D756-4570-A0D4-DCFF2FD2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02F1-FD36-411C-8045-7C2B19E8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3B34-4521-4577-8E4C-613A7B68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ED6-6A94-4512-8A5A-CE775130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D37AC-50CA-4C7B-89C7-E8EB3156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3727-8D23-4CD7-8A17-85DDD4CB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C638-E9F7-4FDD-91D2-B00809C5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0363-A536-4FB4-951F-1D9ADEF9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76574-23A3-4EA2-80A4-666C94D3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6216-6CAF-49B9-A3FE-F3A95906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888F-1C73-45D5-8BB9-2A4E8171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531-56AC-48E8-B09F-BD288833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1AF-32D6-428B-B22D-C5FE4203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FA3-9F6B-4BE6-A21F-B4C0BA01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F8E-43CD-4BB1-B234-2FAE670C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013-83D7-4CF8-AAB1-76B23DD8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FF6-1900-4AF1-909D-DF92753F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D0F4-A370-48D6-9182-CA203686399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D5E4-3F33-4EEA-869D-7F25736BA4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814520" y="6424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2659-551F-4849-A9D2-4D1B72FF3ECB}" type="slidenum"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s-ES" sz="6000" spc="-1" strike="noStrike">
                <a:solidFill>
                  <a:srgbClr val="660066"/>
                </a:solidFill>
                <a:latin typeface="Arial"/>
              </a:rPr>
              <a:t>Las Conversaciones en el Ámbito Labor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472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9933ff"/>
                </a:solidFill>
                <a:latin typeface="Arial"/>
              </a:rPr>
              <a:t>Los Actos Lingüíst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000320" y="2214720"/>
            <a:ext cx="46148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Afirm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Decla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b6bcf"/>
                </a:solidFill>
                <a:latin typeface="Arial"/>
              </a:rPr>
              <a:t>Ju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b6bcf"/>
                </a:solidFill>
                <a:latin typeface="Arial"/>
              </a:rPr>
              <a:t>Pet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b6bcf"/>
                </a:solidFill>
                <a:latin typeface="Arial"/>
              </a:rPr>
              <a:t>Ofer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b6bc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b6bcf"/>
                </a:solidFill>
                <a:latin typeface="Arial"/>
              </a:rPr>
              <a:t>Prom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http://4.bp.blogspot.com/_VggPGX22RXY/SkOhRiRgMBI/AAAAAAAAADQ/clfLKFh4mYw/s320/Actos+linguisticos.png"/>
          <p:cNvPicPr/>
          <p:nvPr/>
        </p:nvPicPr>
        <p:blipFill>
          <a:blip r:embed="rId1"/>
          <a:stretch/>
        </p:blipFill>
        <p:spPr>
          <a:xfrm>
            <a:off x="642960" y="22860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33ff"/>
                </a:solidFill>
                <a:latin typeface="Arial"/>
              </a:rPr>
              <a:t>Afirm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30081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b6bcf"/>
                </a:solidFill>
                <a:latin typeface="Arial"/>
              </a:rPr>
              <a:t>Verdaderas o Fal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b6bcf"/>
                </a:solidFill>
                <a:latin typeface="Arial"/>
              </a:rPr>
              <a:t>Relevantes o Irrelev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0 CuadroTexto"/>
          <p:cNvSpPr/>
          <p:nvPr/>
        </p:nvSpPr>
        <p:spPr>
          <a:xfrm>
            <a:off x="2786040" y="507204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6b6bcf"/>
                </a:solidFill>
                <a:latin typeface="Arial"/>
              </a:rPr>
              <a:t>COMPROM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1 CuadroTexto"/>
          <p:cNvSpPr/>
          <p:nvPr/>
        </p:nvSpPr>
        <p:spPr>
          <a:xfrm>
            <a:off x="219240" y="6072120"/>
            <a:ext cx="88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b6bcf"/>
                </a:solidFill>
                <a:latin typeface="Arial"/>
              </a:rPr>
              <a:t>Cuando afirmo asumo el compromiso de que mis afirmaciones sean verdad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9 Marcador de contenido" descr="falso-o-verdadero2.jpg"/>
          <p:cNvPicPr/>
          <p:nvPr/>
        </p:nvPicPr>
        <p:blipFill>
          <a:blip r:embed="rId1"/>
          <a:stretch/>
        </p:blipFill>
        <p:spPr>
          <a:xfrm>
            <a:off x="3929040" y="1428840"/>
            <a:ext cx="4318200" cy="3000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33ff"/>
                </a:solidFill>
                <a:latin typeface="Arial"/>
              </a:rPr>
              <a:t>Decla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6 Marcador de contenido" descr="declaraciones.bmp"/>
          <p:cNvPicPr/>
          <p:nvPr/>
        </p:nvPicPr>
        <p:blipFill>
          <a:blip r:embed="rId1"/>
          <a:stretch/>
        </p:blipFill>
        <p:spPr>
          <a:xfrm>
            <a:off x="4071960" y="1071720"/>
            <a:ext cx="3708360" cy="25844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19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6b6bcf"/>
                </a:solidFill>
                <a:latin typeface="Arial"/>
              </a:rPr>
              <a:t>Validas o Invál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4 CuadroTexto"/>
          <p:cNvSpPr/>
          <p:nvPr/>
        </p:nvSpPr>
        <p:spPr>
          <a:xfrm>
            <a:off x="2786040" y="45007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6b6bcf"/>
                </a:solidFill>
                <a:latin typeface="Arial"/>
              </a:rPr>
              <a:t>COMPROM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5 CuadroTexto"/>
          <p:cNvSpPr/>
          <p:nvPr/>
        </p:nvSpPr>
        <p:spPr>
          <a:xfrm>
            <a:off x="357120" y="52862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b6bcf"/>
                </a:solidFill>
                <a:latin typeface="Arial"/>
              </a:rPr>
              <a:t>Cuando declaro asumo el compromiso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b6bcf"/>
                </a:solidFill>
                <a:latin typeface="Arial"/>
              </a:rPr>
              <a:t>a) Que mis declaraciones sean validas de acuerdo a la autoridad que tengo para hace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b6bcf"/>
                </a:solidFill>
                <a:latin typeface="Arial"/>
              </a:rPr>
              <a:t>b) Que actuaré en forma consistente con lo que decl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33ff"/>
                </a:solidFill>
                <a:latin typeface="Arial"/>
              </a:rPr>
              <a:t>Ju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b6bcf"/>
                </a:solidFill>
                <a:latin typeface="Arial"/>
              </a:rPr>
              <a:t>Validos o Invál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6b6bcf"/>
                </a:solidFill>
                <a:latin typeface="Arial"/>
              </a:rPr>
              <a:t>Fundados o infun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5 Marcador de contenido" descr="mandela.jpg"/>
          <p:cNvPicPr/>
          <p:nvPr/>
        </p:nvPicPr>
        <p:blipFill>
          <a:blip r:embed="rId1"/>
          <a:stretch/>
        </p:blipFill>
        <p:spPr>
          <a:xfrm>
            <a:off x="4421160" y="399960"/>
            <a:ext cx="4265640" cy="4672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33ff"/>
                </a:solidFill>
                <a:latin typeface="Arial"/>
              </a:rPr>
              <a:t>Prom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5 Marcador de contenido" descr="promesa.jpg"/>
          <p:cNvPicPr/>
          <p:nvPr/>
        </p:nvPicPr>
        <p:blipFill>
          <a:blip r:embed="rId1"/>
          <a:stretch/>
        </p:blipFill>
        <p:spPr>
          <a:xfrm>
            <a:off x="4286160" y="1857240"/>
            <a:ext cx="4070520" cy="3076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85880" y="1571400"/>
            <a:ext cx="30081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Oferta + Ace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Petición + Ace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33ff"/>
                </a:solidFill>
                <a:latin typeface="Arial"/>
              </a:rPr>
              <a:t>Silencio no es ca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2356920"/>
            <a:ext cx="8229600" cy="34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Silencio es la ausencia del h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El callar es no expresar o revelar en una conversación pública nuestra conversación priv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4 Imagen" descr="logo-silencio.jpg"/>
          <p:cNvPicPr/>
          <p:nvPr/>
        </p:nvPicPr>
        <p:blipFill>
          <a:blip r:embed="rId1"/>
          <a:stretch/>
        </p:blipFill>
        <p:spPr>
          <a:xfrm>
            <a:off x="7429680" y="2000160"/>
            <a:ext cx="1176120" cy="1382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87" name="5 Imagen" descr="callar.jpg"/>
          <p:cNvPicPr/>
          <p:nvPr/>
        </p:nvPicPr>
        <p:blipFill>
          <a:blip r:embed="rId2"/>
          <a:stretch/>
        </p:blipFill>
        <p:spPr>
          <a:xfrm>
            <a:off x="5565600" y="4565520"/>
            <a:ext cx="2481480" cy="185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33ff"/>
                </a:solidFill>
                <a:latin typeface="Arial"/>
              </a:rPr>
              <a:t>Tipologías de la convers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33ff"/>
                </a:solidFill>
                <a:latin typeface="Arial"/>
              </a:rPr>
              <a:t>Conversaciones Públ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28760" y="20714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De Juicios y Ex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Para Coordinación de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Para Posibles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Para Posibles Convers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Para la Construcción de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33ff"/>
                </a:solidFill>
                <a:latin typeface="Arial"/>
              </a:rPr>
              <a:t>Conversación </a:t>
            </a:r>
            <a:r>
              <a:rPr b="1" lang="es-AR" sz="4000" spc="-1" strike="noStrike">
                <a:solidFill>
                  <a:srgbClr val="9933ff"/>
                </a:solidFill>
                <a:latin typeface="Arial"/>
              </a:rPr>
              <a:t>de Juicios y Ex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12 Grupo" descr=""/>
          <p:cNvPicPr/>
          <p:nvPr/>
        </p:nvPicPr>
        <p:blipFill>
          <a:blip r:embed="rId1"/>
          <a:stretch/>
        </p:blipFill>
        <p:spPr>
          <a:xfrm>
            <a:off x="658800" y="2816280"/>
            <a:ext cx="7540560" cy="2762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33ff"/>
                </a:solidFill>
                <a:latin typeface="Arial"/>
              </a:rPr>
              <a:t>Conversación para Coordinación de </a:t>
            </a:r>
            <a:r>
              <a:rPr b="1" lang="es-AR" sz="4000" spc="-1" strike="noStrike">
                <a:solidFill>
                  <a:srgbClr val="9933ff"/>
                </a:solidFill>
                <a:latin typeface="Arial"/>
              </a:rPr>
              <a:t>A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2 Grupo"/>
          <p:cNvGrpSpPr/>
          <p:nvPr/>
        </p:nvGrpSpPr>
        <p:grpSpPr>
          <a:xfrm>
            <a:off x="714240" y="2844720"/>
            <a:ext cx="7429680" cy="2656080"/>
            <a:chOff x="714240" y="2844720"/>
            <a:chExt cx="7429680" cy="2656080"/>
          </a:xfrm>
        </p:grpSpPr>
        <p:sp>
          <p:nvSpPr>
            <p:cNvPr id="198" name="13 Redondear rectángulo de esquina del mismo lado"/>
            <p:cNvSpPr/>
            <p:nvPr/>
          </p:nvSpPr>
          <p:spPr>
            <a:xfrm rot="5400000">
              <a:off x="3101040" y="457560"/>
              <a:ext cx="2656080" cy="7429680"/>
            </a:xfrm>
            <a:custGeom>
              <a:avLst/>
              <a:gdLst>
                <a:gd name="textAreaLeft" fmla="*/ 129600 w 2656080"/>
                <a:gd name="textAreaRight" fmla="*/ 2526480 w 2656080"/>
                <a:gd name="textAreaTop" fmla="*/ 80280 h 7429680"/>
                <a:gd name="textAreaBottom" fmla="*/ 7430040 h 7429680"/>
              </a:gdLst>
              <a:ahLst/>
              <a:rect l="textAreaLeft" t="textAreaTop" r="textAreaRight" b="textAreaBottom"/>
              <a:pathLst>
                <a:path w="1166849" h="5266944">
                  <a:moveTo>
                    <a:pt x="194479" y="0"/>
                  </a:moveTo>
                  <a:lnTo>
                    <a:pt x="972370" y="0"/>
                  </a:lnTo>
                  <a:lnTo>
                    <a:pt x="972370" y="0"/>
                  </a:lnTo>
                  <a:arcTo wR="194479" hR="194479" stAng="-5400000" swAng="5400000"/>
                  <a:lnTo>
                    <a:pt x="1166849" y="5266944"/>
                  </a:lnTo>
                  <a:lnTo>
                    <a:pt x="0" y="5266944"/>
                  </a:lnTo>
                  <a:lnTo>
                    <a:pt x="0" y="194479"/>
                  </a:lnTo>
                  <a:lnTo>
                    <a:pt x="0" y="194479"/>
                  </a:lnTo>
                  <a:arcTo wR="194479" hR="194479" stAng="10800000" swAng="5400000"/>
                  <a:close/>
                </a:path>
              </a:pathLst>
            </a:custGeom>
            <a:solidFill>
              <a:srgbClr val="7030a0"/>
            </a:solidFill>
            <a:ln w="9360">
              <a:solidFill>
                <a:srgbClr val="2f2f98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dondear rectángulo de esquina del mismo lado 4"/>
            <p:cNvSpPr/>
            <p:nvPr/>
          </p:nvSpPr>
          <p:spPr>
            <a:xfrm>
              <a:off x="999720" y="3143160"/>
              <a:ext cx="6929640" cy="20131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Arial"/>
                </a:rPr>
                <a:t>Con ella se logra resolver el proble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Arial"/>
                </a:rPr>
                <a:t>Nos permite “echar a andar la máquina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s-ES_tradnl" sz="2900" spc="-1" strike="noStrike">
                <a:solidFill>
                  <a:srgbClr val="9933ff"/>
                </a:solidFill>
                <a:latin typeface="Arial"/>
              </a:rPr>
              <a:t>RED CONVERSACIONAL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b6bcf"/>
                </a:solidFill>
                <a:latin typeface="Arial"/>
              </a:rPr>
              <a:t>La organización es una </a:t>
            </a:r>
            <a:r>
              <a:rPr b="1" lang="es-ES" sz="2400" spc="-1" strike="noStrike">
                <a:solidFill>
                  <a:srgbClr val="7030a0"/>
                </a:solidFill>
                <a:latin typeface="Arial"/>
              </a:rPr>
              <a:t>red de conversaciones </a:t>
            </a:r>
            <a:r>
              <a:rPr b="0" lang="es-ES" sz="2400" spc="-1" strike="noStrike">
                <a:solidFill>
                  <a:srgbClr val="6b6bcf"/>
                </a:solidFill>
                <a:latin typeface="Arial"/>
              </a:rPr>
              <a:t>en la que los miembros establecen compromisos mutu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b6bcf"/>
                </a:solidFill>
                <a:latin typeface="Arial"/>
              </a:rPr>
              <a:t>La red debe mantenerse sane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26 Imagen" descr="conversaciones-social-media.png"/>
          <p:cNvPicPr/>
          <p:nvPr/>
        </p:nvPicPr>
        <p:blipFill>
          <a:blip r:embed="rId1"/>
          <a:stretch/>
        </p:blipFill>
        <p:spPr>
          <a:xfrm>
            <a:off x="1714680" y="3071880"/>
            <a:ext cx="5975280" cy="2490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33ff"/>
                </a:solidFill>
                <a:latin typeface="Arial"/>
              </a:rPr>
              <a:t>Conversación para </a:t>
            </a:r>
            <a:r>
              <a:rPr b="1" lang="es-AR" sz="4000" spc="-1" strike="noStrike">
                <a:solidFill>
                  <a:srgbClr val="9933ff"/>
                </a:solidFill>
                <a:latin typeface="Arial"/>
              </a:rPr>
              <a:t>posibles A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12 Grupo"/>
          <p:cNvGrpSpPr/>
          <p:nvPr/>
        </p:nvGrpSpPr>
        <p:grpSpPr>
          <a:xfrm>
            <a:off x="714240" y="2844720"/>
            <a:ext cx="7429680" cy="2656080"/>
            <a:chOff x="714240" y="2844720"/>
            <a:chExt cx="7429680" cy="2656080"/>
          </a:xfrm>
        </p:grpSpPr>
        <p:sp>
          <p:nvSpPr>
            <p:cNvPr id="203" name="13 Redondear rectángulo de esquina del mismo lado"/>
            <p:cNvSpPr/>
            <p:nvPr/>
          </p:nvSpPr>
          <p:spPr>
            <a:xfrm rot="5400000">
              <a:off x="3101040" y="457560"/>
              <a:ext cx="2656080" cy="7429680"/>
            </a:xfrm>
            <a:custGeom>
              <a:avLst/>
              <a:gdLst>
                <a:gd name="textAreaLeft" fmla="*/ 129600 w 2656080"/>
                <a:gd name="textAreaRight" fmla="*/ 2526480 w 2656080"/>
                <a:gd name="textAreaTop" fmla="*/ 80280 h 7429680"/>
                <a:gd name="textAreaBottom" fmla="*/ 7430040 h 7429680"/>
              </a:gdLst>
              <a:ahLst/>
              <a:rect l="textAreaLeft" t="textAreaTop" r="textAreaRight" b="textAreaBottom"/>
              <a:pathLst>
                <a:path w="1166849" h="5266944">
                  <a:moveTo>
                    <a:pt x="194479" y="0"/>
                  </a:moveTo>
                  <a:lnTo>
                    <a:pt x="972370" y="0"/>
                  </a:lnTo>
                  <a:lnTo>
                    <a:pt x="972370" y="0"/>
                  </a:lnTo>
                  <a:arcTo wR="194479" hR="194479" stAng="-5400000" swAng="5400000"/>
                  <a:lnTo>
                    <a:pt x="1166849" y="5266944"/>
                  </a:lnTo>
                  <a:lnTo>
                    <a:pt x="0" y="5266944"/>
                  </a:lnTo>
                  <a:lnTo>
                    <a:pt x="0" y="194479"/>
                  </a:lnTo>
                  <a:lnTo>
                    <a:pt x="0" y="194479"/>
                  </a:lnTo>
                  <a:arcTo wR="194479" hR="194479" stAng="10800000" swAng="5400000"/>
                  <a:close/>
                </a:path>
              </a:pathLst>
            </a:custGeom>
            <a:solidFill>
              <a:srgbClr val="7030a0"/>
            </a:solidFill>
            <a:ln w="9360">
              <a:solidFill>
                <a:srgbClr val="2f2f98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dondear rectángulo de esquina del mismo lado 4"/>
            <p:cNvSpPr/>
            <p:nvPr/>
          </p:nvSpPr>
          <p:spPr>
            <a:xfrm>
              <a:off x="999720" y="3143160"/>
              <a:ext cx="6929640" cy="20131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Arial"/>
                </a:rPr>
                <a:t>Explican el acontec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Arial"/>
                </a:rPr>
                <a:t>Encontrar alternativas de ac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33ff"/>
                </a:solidFill>
                <a:latin typeface="Arial"/>
              </a:rPr>
              <a:t>Conversación para </a:t>
            </a:r>
            <a:r>
              <a:rPr b="1" lang="es-AR" sz="4000" spc="-1" strike="noStrike">
                <a:solidFill>
                  <a:srgbClr val="9933ff"/>
                </a:solidFill>
                <a:latin typeface="Arial"/>
              </a:rPr>
              <a:t>posibles</a:t>
            </a:r>
            <a:br>
              <a:rPr sz="4000"/>
            </a:br>
            <a:r>
              <a:rPr b="1" lang="es-AR" sz="4000" spc="-1" strike="noStrike">
                <a:solidFill>
                  <a:srgbClr val="9933ff"/>
                </a:solidFill>
                <a:latin typeface="Arial"/>
              </a:rPr>
              <a:t>Convers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12 Grupo"/>
          <p:cNvGrpSpPr/>
          <p:nvPr/>
        </p:nvGrpSpPr>
        <p:grpSpPr>
          <a:xfrm>
            <a:off x="714240" y="2844720"/>
            <a:ext cx="7429680" cy="2656080"/>
            <a:chOff x="714240" y="2844720"/>
            <a:chExt cx="7429680" cy="2656080"/>
          </a:xfrm>
        </p:grpSpPr>
        <p:sp>
          <p:nvSpPr>
            <p:cNvPr id="208" name="13 Redondear rectángulo de esquina del mismo lado"/>
            <p:cNvSpPr/>
            <p:nvPr/>
          </p:nvSpPr>
          <p:spPr>
            <a:xfrm rot="5400000">
              <a:off x="3101040" y="457560"/>
              <a:ext cx="2656080" cy="7429680"/>
            </a:xfrm>
            <a:custGeom>
              <a:avLst/>
              <a:gdLst>
                <a:gd name="textAreaLeft" fmla="*/ 129600 w 2656080"/>
                <a:gd name="textAreaRight" fmla="*/ 2526480 w 2656080"/>
                <a:gd name="textAreaTop" fmla="*/ 80280 h 7429680"/>
                <a:gd name="textAreaBottom" fmla="*/ 7430040 h 7429680"/>
              </a:gdLst>
              <a:ahLst/>
              <a:rect l="textAreaLeft" t="textAreaTop" r="textAreaRight" b="textAreaBottom"/>
              <a:pathLst>
                <a:path w="1166849" h="5266944">
                  <a:moveTo>
                    <a:pt x="194479" y="0"/>
                  </a:moveTo>
                  <a:lnTo>
                    <a:pt x="972370" y="0"/>
                  </a:lnTo>
                  <a:lnTo>
                    <a:pt x="972370" y="0"/>
                  </a:lnTo>
                  <a:arcTo wR="194479" hR="194479" stAng="-5400000" swAng="5400000"/>
                  <a:lnTo>
                    <a:pt x="1166849" y="5266944"/>
                  </a:lnTo>
                  <a:lnTo>
                    <a:pt x="0" y="5266944"/>
                  </a:lnTo>
                  <a:lnTo>
                    <a:pt x="0" y="194479"/>
                  </a:lnTo>
                  <a:lnTo>
                    <a:pt x="0" y="194479"/>
                  </a:lnTo>
                  <a:arcTo wR="194479" hR="194479" stAng="10800000" swAng="5400000"/>
                  <a:close/>
                </a:path>
              </a:pathLst>
            </a:custGeom>
            <a:solidFill>
              <a:srgbClr val="7030a0"/>
            </a:solidFill>
            <a:ln w="9360">
              <a:solidFill>
                <a:srgbClr val="2f2f98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dondear rectángulo de esquina del mismo lado 4"/>
            <p:cNvSpPr/>
            <p:nvPr/>
          </p:nvSpPr>
          <p:spPr>
            <a:xfrm>
              <a:off x="999720" y="3143160"/>
              <a:ext cx="6929640" cy="20131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Arial"/>
                </a:rPr>
                <a:t>Mejorar la manera como conversam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Arial"/>
                </a:rPr>
                <a:t>Permite preparar la próxima convers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33ff"/>
                </a:solidFill>
                <a:latin typeface="Arial"/>
              </a:rPr>
              <a:t>Conversación para </a:t>
            </a:r>
            <a:r>
              <a:rPr b="1" lang="es-AR" sz="4000" spc="-1" strike="noStrike">
                <a:solidFill>
                  <a:srgbClr val="9933ff"/>
                </a:solidFill>
                <a:latin typeface="Arial"/>
              </a:rPr>
              <a:t>la Construcción de Relaci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12 Grupo"/>
          <p:cNvGrpSpPr/>
          <p:nvPr/>
        </p:nvGrpSpPr>
        <p:grpSpPr>
          <a:xfrm>
            <a:off x="714240" y="2844720"/>
            <a:ext cx="7429680" cy="2656080"/>
            <a:chOff x="714240" y="2844720"/>
            <a:chExt cx="7429680" cy="2656080"/>
          </a:xfrm>
        </p:grpSpPr>
        <p:sp>
          <p:nvSpPr>
            <p:cNvPr id="213" name="13 Redondear rectángulo de esquina del mismo lado"/>
            <p:cNvSpPr/>
            <p:nvPr/>
          </p:nvSpPr>
          <p:spPr>
            <a:xfrm rot="5400000">
              <a:off x="3101040" y="457560"/>
              <a:ext cx="2656080" cy="7429680"/>
            </a:xfrm>
            <a:custGeom>
              <a:avLst/>
              <a:gdLst>
                <a:gd name="textAreaLeft" fmla="*/ 129600 w 2656080"/>
                <a:gd name="textAreaRight" fmla="*/ 2526480 w 2656080"/>
                <a:gd name="textAreaTop" fmla="*/ 80280 h 7429680"/>
                <a:gd name="textAreaBottom" fmla="*/ 7430040 h 7429680"/>
              </a:gdLst>
              <a:ahLst/>
              <a:rect l="textAreaLeft" t="textAreaTop" r="textAreaRight" b="textAreaBottom"/>
              <a:pathLst>
                <a:path w="1166849" h="5266944">
                  <a:moveTo>
                    <a:pt x="194479" y="0"/>
                  </a:moveTo>
                  <a:lnTo>
                    <a:pt x="972370" y="0"/>
                  </a:lnTo>
                  <a:lnTo>
                    <a:pt x="972370" y="0"/>
                  </a:lnTo>
                  <a:arcTo wR="194479" hR="194479" stAng="-5400000" swAng="5400000"/>
                  <a:lnTo>
                    <a:pt x="1166849" y="5266944"/>
                  </a:lnTo>
                  <a:lnTo>
                    <a:pt x="0" y="5266944"/>
                  </a:lnTo>
                  <a:lnTo>
                    <a:pt x="0" y="194479"/>
                  </a:lnTo>
                  <a:lnTo>
                    <a:pt x="0" y="194479"/>
                  </a:lnTo>
                  <a:arcTo wR="194479" hR="194479" stAng="10800000" swAng="5400000"/>
                  <a:close/>
                </a:path>
              </a:pathLst>
            </a:custGeom>
            <a:solidFill>
              <a:srgbClr val="7030a0"/>
            </a:solidFill>
            <a:ln w="9360">
              <a:solidFill>
                <a:srgbClr val="2f2f98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dondear rectángulo de esquina del mismo lado 4"/>
            <p:cNvSpPr/>
            <p:nvPr/>
          </p:nvSpPr>
          <p:spPr>
            <a:xfrm>
              <a:off x="999720" y="3143160"/>
              <a:ext cx="6929640" cy="20131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Arial"/>
                </a:rPr>
                <a:t>Esta basada en la confianz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Arial"/>
                </a:rPr>
                <a:t>Se define el carácter de la rel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ff"/>
                </a:solidFill>
                <a:latin typeface="Arial"/>
              </a:rPr>
              <a:t>EQUIPOS DE TRABAJO EFE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2920" y="1857240"/>
            <a:ext cx="4038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b6bcf"/>
                </a:solidFill>
                <a:latin typeface="Arial"/>
              </a:rPr>
              <a:t>En la tarea individual </a:t>
            </a:r>
            <a:r>
              <a:rPr b="0" lang="es-ES" sz="2000" spc="-1" strike="noStrike">
                <a:solidFill>
                  <a:srgbClr val="6b6bcf"/>
                </a:solidFill>
                <a:latin typeface="Arial"/>
              </a:rPr>
              <a:t>se necesita la habilidad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b6bcf"/>
                </a:solidFill>
                <a:latin typeface="Arial"/>
              </a:rPr>
              <a:t>Para coordinar acciones </a:t>
            </a:r>
            <a:r>
              <a:rPr b="0" lang="es-ES" sz="2000" spc="-1" strike="noStrike">
                <a:solidFill>
                  <a:srgbClr val="6b6bcf"/>
                </a:solidFill>
                <a:latin typeface="Arial"/>
              </a:rPr>
              <a:t>se requieren habilidades conversacionales:  hay que </a:t>
            </a:r>
            <a:r>
              <a:rPr b="0" lang="es-ES" sz="2000" spc="-1" strike="noStrike">
                <a:solidFill>
                  <a:srgbClr val="9966ff"/>
                </a:solidFill>
                <a:latin typeface="Arial"/>
              </a:rPr>
              <a:t>aprender a hacer promesas </a:t>
            </a:r>
            <a:r>
              <a:rPr b="0" lang="es-ES" sz="2000" spc="-1" strike="noStrike">
                <a:solidFill>
                  <a:srgbClr val="6b6bcf"/>
                </a:solidFill>
                <a:latin typeface="Arial"/>
              </a:rPr>
              <a:t>y a </a:t>
            </a:r>
            <a:r>
              <a:rPr b="0" lang="es-ES" sz="2000" spc="-1" strike="noStrike">
                <a:solidFill>
                  <a:srgbClr val="9966ff"/>
                </a:solidFill>
                <a:latin typeface="Arial"/>
              </a:rPr>
              <a:t>dar y recibir juicios crít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b6bcf"/>
                </a:solidFill>
                <a:latin typeface="Arial"/>
              </a:rPr>
              <a:t>El autoconocimiento y el mejoramiento continuo  </a:t>
            </a:r>
            <a:r>
              <a:rPr b="0" lang="es-ES" sz="2000" spc="-1" strike="noStrike">
                <a:solidFill>
                  <a:srgbClr val="6b6bcf"/>
                </a:solidFill>
                <a:latin typeface="Arial"/>
              </a:rPr>
              <a:t>a partir de la 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mirada permanente sobre lo que pensamos, sentimos y hace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5 Marcador de contenido" descr="orquesta.jpg"/>
          <p:cNvPicPr/>
          <p:nvPr/>
        </p:nvPicPr>
        <p:blipFill>
          <a:blip r:embed="rId1"/>
          <a:stretch/>
        </p:blipFill>
        <p:spPr>
          <a:xfrm>
            <a:off x="457200" y="2401920"/>
            <a:ext cx="4038480" cy="2922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33ff"/>
                </a:solidFill>
                <a:latin typeface="Arial"/>
              </a:rPr>
              <a:t>Grupo de Trabajo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7 Marcador de contenido" descr="familia.jpeg"/>
          <p:cNvPicPr/>
          <p:nvPr/>
        </p:nvPicPr>
        <p:blipFill>
          <a:blip r:embed="rId1"/>
          <a:srcRect l="0" t="0" r="17439" b="58017"/>
          <a:stretch/>
        </p:blipFill>
        <p:spPr>
          <a:xfrm>
            <a:off x="1714680" y="1571760"/>
            <a:ext cx="5781600" cy="4043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9933ff"/>
                </a:solidFill>
                <a:latin typeface="Arial"/>
              </a:rPr>
              <a:t>Ser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3 Marcador de contenido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33ff"/>
                </a:solidFill>
                <a:latin typeface="Arial"/>
              </a:rPr>
              <a:t>Componentes de una convers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596960"/>
            <a:ext cx="8450280" cy="4535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33ff"/>
                </a:solidFill>
                <a:latin typeface="Arial"/>
              </a:rPr>
              <a:t>Componentes de una convers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596960"/>
            <a:ext cx="8663040" cy="4535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33ff"/>
                </a:solidFill>
                <a:latin typeface="Arial"/>
              </a:rPr>
              <a:t>Componentes de una convers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596960"/>
            <a:ext cx="8364600" cy="45356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33ff"/>
                </a:solidFill>
                <a:latin typeface="Arial"/>
              </a:rPr>
              <a:t>El Escuchar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El escuchar valida el hab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Escuchar = Oír + Interpre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El hablar no garantiza el escu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Existe una brecha entre el hablar y el escu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6b6bcf"/>
                </a:solidFill>
                <a:latin typeface="Arial"/>
              </a:rPr>
              <a:t>Escuchar efectivo: busca reducir esa br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9933ff"/>
                </a:solidFill>
                <a:latin typeface="Arial"/>
              </a:rPr>
              <a:t>El Hab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760" y="2428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6b6bcf"/>
                </a:solidFill>
                <a:latin typeface="Arial"/>
              </a:rPr>
              <a:t>Modalidades del Hab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6b6bcf"/>
                </a:solidFill>
                <a:latin typeface="Arial"/>
              </a:rPr>
              <a:t>Actos Lingüíst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f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9933ff"/>
                </a:solidFill>
                <a:latin typeface="Arial"/>
              </a:rPr>
              <a:t>Modalidades </a:t>
            </a:r>
            <a:r>
              <a:rPr b="1" lang="es-AR" sz="5400" spc="-1" strike="noStrike">
                <a:solidFill>
                  <a:srgbClr val="9933ff"/>
                </a:solidFill>
                <a:latin typeface="Arial"/>
              </a:rPr>
              <a:t>del Hab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75564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84360" y="4653000"/>
            <a:ext cx="1223640" cy="1008000"/>
          </a:xfrm>
          <a:prstGeom prst="rightArrow">
            <a:avLst>
              <a:gd name="adj1" fmla="val 50000"/>
              <a:gd name="adj2" fmla="val 30348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627280" y="2060640"/>
            <a:ext cx="482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b6bcf"/>
                </a:solidFill>
                <a:latin typeface="Arial"/>
              </a:rPr>
              <a:t>PROP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b6bcf"/>
                </a:solidFill>
                <a:latin typeface="Arial"/>
              </a:rPr>
              <a:t>Hablar desde nuestras propias inquietudes dando a conocer nuestra forma de observar la situación y los cursos de acción que consideramos más adecu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556000" y="4365720"/>
            <a:ext cx="482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b6bcf"/>
                </a:solidFill>
                <a:latin typeface="Arial"/>
              </a:rPr>
              <a:t>IND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b6bcf"/>
                </a:solidFill>
                <a:latin typeface="Arial"/>
              </a:rPr>
              <a:t>Hablar para que el otro revele sus inquietudes y de a conocer su forma de observar la situación y los cursos de acción que considere más adecu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7814520" y="638172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80"/>
                </a:solidFill>
                <a:latin typeface="Arial"/>
              </a:rPr>
              <a:t>CCS 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6:04:07Z</dcterms:created>
  <dc:creator>.</dc:creator>
  <dc:description/>
  <dc:language>en-US</dc:language>
  <cp:lastModifiedBy>CPCEACABA</cp:lastModifiedBy>
  <dcterms:modified xsi:type="dcterms:W3CDTF">2011-05-05T17:58:26Z</dcterms:modified>
  <cp:revision>80</cp:revision>
  <dc:subject/>
  <dc:title>Coaching</dc:title>
</cp:coreProperties>
</file>